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459-7ACB-46F0-B510-171D6DF2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EC1-E101-4804-8403-941E59BB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182-286B-42C0-9365-812EA636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205-D549-49C2-BA50-5B3EC33F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87191-C5B1-4AB6-B0A8-D44BCB20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D9B72-6CBB-4BD4-89D8-CB9BE6A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6D6A-C39D-4C66-A65F-D5D61766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CF893-5D24-4B61-968B-1F96766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4DB2-7F3D-46D9-A7A0-5565BDA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DC989-D95F-4AE1-8E7B-A83DD3E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BA5B-7826-4512-AF81-4FEE7A0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3F8-3075-4478-BA37-806C877A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6D91-E24B-4D96-AFE7-37F36C5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0C8A9-A6DC-4084-80AD-CEDC237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D5E63-FA5B-4CCB-AD64-555D96A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CD327-79D7-4B7A-A42A-8A6DB32D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F021-CCD5-4648-8583-7B5EE88D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780-18B4-46CE-905F-9E3935BA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2B6-0C0C-4AB7-A1CF-7CD4C15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BAA-9222-4587-9FAE-18BF1FD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99F-9662-4A23-8057-45974AD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EC3-5B18-4455-900E-6F9C4A4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B0F-BCA0-491E-B040-E14148E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686-1D46-4F8D-A20C-23831AC3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6C6-E1ED-4B1A-8F1F-A69416AD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CCB-156A-47DE-95C4-538B2A112E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0"/>
          <p:cNvSpPr txBox="1"/>
          <p:nvPr/>
        </p:nvSpPr>
        <p:spPr>
          <a:xfrm>
            <a:off x="3564000" y="465300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甘肃省理工中等专业学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WordArt 11" descr=""/>
          <p:cNvPicPr/>
          <p:nvPr/>
        </p:nvPicPr>
        <p:blipFill>
          <a:blip r:embed="rId2"/>
          <a:stretch/>
        </p:blipFill>
        <p:spPr>
          <a:xfrm>
            <a:off x="6010200" y="5224320"/>
            <a:ext cx="2097000" cy="487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2"/>
          <p:cNvSpPr txBox="1"/>
          <p:nvPr/>
        </p:nvSpPr>
        <p:spPr>
          <a:xfrm>
            <a:off x="1979640" y="765000"/>
            <a:ext cx="56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校园安全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2195640" y="2565360"/>
            <a:ext cx="460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从我做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684360" y="254880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Arial"/>
              </a:rPr>
              <a:t>、日常行为安全：不携带刀具、火种或其它危险品进入校园；严禁勾结校外人员来校滋事、打架；不进网吧、游戏室等娱乐场所；不在楼梯、走廊上追逐打闹、推撞；上下楼梯靠右行，不拥挤、不抢行；严禁攀爬围墙、栏杆及大树。周五放学后，严禁坐摩的回家，与陌生人交谈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423720"/>
            <a:ext cx="41036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制定安全措施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11280" y="4934880"/>
            <a:ext cx="6985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c600"/>
                </a:solidFill>
                <a:latin typeface="Arial"/>
              </a:rPr>
              <a:t>、体育课安全：上体育课时，要有防范意识，不随意投掷器材。严禁下雨天打篮球或踢足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95280" y="2255040"/>
            <a:ext cx="806436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c600"/>
                </a:solidFill>
                <a:latin typeface="Arial"/>
              </a:rPr>
              <a:t>、集体活动安全：班级、年级、学校组织的户外活动，要严格遵守活动纪律，听从老师的指挥，身体有不舒服的要及时告知老师或身边的同学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c600"/>
                </a:solidFill>
                <a:latin typeface="Arial"/>
              </a:rPr>
              <a:t>、心理健康安全：积极疏导化解学生心理问题，同学之间关心关照，适时向他人倾诉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2195640" y="836640"/>
            <a:ext cx="63370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1296d"/>
                </a:solidFill>
                <a:latin typeface="Arial"/>
              </a:rPr>
              <a:t>大家已经学习了那么多安全知识了，下面来考考大家对安全知识的掌握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11280" y="1799640"/>
            <a:ext cx="8137440" cy="3993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选择题：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同学之间发生小摩擦时，下列处理方法正确的是（        ）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原谅同学或报告老师，让老师处理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记恨在心，事后叫人一起教训对方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据情节给予报复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叫家长到学校来教训对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916360" y="2565360"/>
            <a:ext cx="1439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900000" y="1341360"/>
            <a:ext cx="7632720" cy="3080160"/>
          </a:xfrm>
          <a:prstGeom prst="rect">
            <a:avLst/>
          </a:prstGeom>
          <a:noFill/>
          <a:ln w="44280">
            <a:solidFill>
              <a:srgbClr val="ffcccc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）在预防饮食安全方面做的不妥当的是（       ）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购买包装食品时，要查看有无生产日期，保质期，生产单位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餐具要卫生，要有自己的专用餐具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在外就餐时，选择较为便宜的，无证无照的“路边摊”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养成良好的个人卫生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71640" y="1773360"/>
            <a:ext cx="1439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532520" y="585720"/>
            <a:ext cx="364032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遇到别人打架时（        ）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上前围观，给自己认识的人加油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帮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不管他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去劝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告诉老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780000" y="668160"/>
            <a:ext cx="151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419920" y="1003680"/>
            <a:ext cx="4421520" cy="283716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）遇到火灾时，拨打（    ）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9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0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364440" y="1033560"/>
            <a:ext cx="13683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970000" y="761400"/>
            <a:ext cx="3062520" cy="33858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在道路上行走时（       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和同学边走边打闹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要走人行道，没有人行道的道路，要靠路边走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行走时东张西望，边走边看书或做其他事情。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为赶时间与机动车辆抢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140360" y="749160"/>
            <a:ext cx="1223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361960" y="1605600"/>
            <a:ext cx="4059360" cy="3506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判断题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使用刀具时，互相比划、打闹。            （     ）</a:t>
            </a:r>
            <a:br>
              <a:rPr sz="2800"/>
            </a:b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用湿手触摸电器，用湿布擦试电器。     （     ）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用手或金属制品去接触插头底部。         （     ）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站在凳子上往阳台下看。                       （  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683120" y="198900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683120" y="285264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683120" y="371628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611480" y="458136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谈谈自己对班会的切身感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班主任的万千叮咛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700360" y="404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</a:rPr>
              <a:t>生命颂</a:t>
            </a: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1268280"/>
            <a:ext cx="813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是宝贵的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但很多人却没有善待生命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是什么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有人说生命是出生的无知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少年的纯真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青年的成熟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中年的练达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老年的愤世嫉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可能绚丽，也可能平淡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但是能安全的生活在世上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享有生的权利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就是对生命的善待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最后，希望通过这次安全教育班会，在全班形成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人人关心校园安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的浓厚氛围。同学们，生命是美好的，生活是多姿多彩的，而要拥有这一切的前提是安全。所以我们一定要时刻加强安全意识，努力增强自我防范能力，做到警钟长鸣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611280" y="1341360"/>
            <a:ext cx="7848360" cy="393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校园安全你都了解了吗  安全知识记在心上了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活的路总有一些危险事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你一定要警惕注意安全过得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路口的指示灯你看清楚了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紧急疏散的路你都记住了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人生自古总有许多突发事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你多做些防范快乐多与烦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祝你平安  祝你平安  安全知识一定要常记心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祝你平安  祝你平安  你永远都平安是我最大的心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050920" y="476280"/>
            <a:ext cx="42483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600"/>
                </a:solidFill>
                <a:latin typeface="Arial"/>
                <a:ea typeface="方正姚体"/>
              </a:rPr>
              <a:t>祝你平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谭炎健-祝你平安.mp3" descr=""/>
          <p:cNvPicPr/>
          <p:nvPr/>
        </p:nvPicPr>
        <p:blipFill>
          <a:blip r:embed="rId2"/>
          <a:stretch/>
        </p:blipFill>
        <p:spPr>
          <a:xfrm>
            <a:off x="5796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4047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7"/>
          <p:cNvSpPr txBox="1"/>
          <p:nvPr/>
        </p:nvSpPr>
        <p:spPr>
          <a:xfrm>
            <a:off x="2050920" y="1268280"/>
            <a:ext cx="5319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826920" y="476280"/>
            <a:ext cx="50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ff9900"/>
                  </a:solidFill>
                  <a:prstDash val="sysDot"/>
                  <a:miter/>
                </a:ln>
                <a:solidFill>
                  <a:srgbClr val="3399ff"/>
                </a:solidFill>
                <a:latin typeface="宋体"/>
              </a:rPr>
              <a:t>请结合视频，</a:t>
            </a:r>
            <a:endParaRPr b="1" lang="en-US" sz="2400" spc="1" strike="noStrike">
              <a:ln w="15840">
                <a:solidFill>
                  <a:srgbClr val="ff9900"/>
                </a:solidFill>
                <a:prstDash val="sysDot"/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ff9900"/>
                  </a:solidFill>
                  <a:prstDash val="sysDot"/>
                  <a:miter/>
                </a:ln>
                <a:solidFill>
                  <a:srgbClr val="3399ff"/>
                </a:solidFill>
                <a:latin typeface="宋体"/>
              </a:rPr>
              <a:t>谈谈你有什么感受</a:t>
            </a:r>
            <a:endParaRPr b="1" lang="en-US" sz="2400" spc="1" strike="noStrike">
              <a:ln w="15840">
                <a:solidFill>
                  <a:srgbClr val="ff9900"/>
                </a:solidFill>
                <a:prstDash val="sysDot"/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pic>
        <p:nvPicPr>
          <p:cNvPr id="90" name="湖南一中学发生踩踏事故８学生死亡_标清.avi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49016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谈谈看完视频后大家的感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大家觉得自己身边的校园安全隐患还有哪些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03640" y="47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安全顺口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11280" y="126828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上课小腿莫伸长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走廊狭窄不疯狂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上下楼梯靠右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危险游戏一扫光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同学之间有磨擦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宽容谦让是良方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11280" y="476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2114640" y="2494080"/>
            <a:ext cx="49147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上课时分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692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114640" y="2494080"/>
            <a:ext cx="49147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间时分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76500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11280" y="1844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114640" y="2819520"/>
            <a:ext cx="5481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劳动时分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同学们从上面三则小品中看到有哪些安全隐患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大家一起制定校园安全防范措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6:16Z</dcterms:created>
  <dc:creator>微软用户</dc:creator>
  <dc:description/>
  <dc:language>en-US</dc:language>
  <cp:lastModifiedBy>USER</cp:lastModifiedBy>
  <dcterms:modified xsi:type="dcterms:W3CDTF">2014-04-16T01:15:53Z</dcterms:modified>
  <cp:revision>76</cp:revision>
  <dc:subject/>
  <dc:title>幻灯片 1</dc:title>
</cp:coreProperties>
</file>